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616-D3F6-44CE-A0D7-492D6049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88D-C59A-4A1D-966A-CD978278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DA4-5DB1-47DE-BFF6-4EE7F7FF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331-D36F-416D-ABB7-B0D08E0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2AE-9FBE-4923-A02D-FB564F10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E3F-AF14-4A11-A539-E94ED566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41B-B21C-4082-B244-5D265FD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10F-91A7-4E09-8B43-1E79FE3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709-30B1-4829-B86A-EAE9138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DC9-F27F-4BC0-9741-72D0B8C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113-A437-4763-9B55-1376A87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3EA-6BDD-4469-B793-AE5CBE0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E2D8-FA76-4671-8957-72E8EBBF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rtualprojectconsulting.com/images/sci_17_hand.gi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cebook.com/album.php?profile=1&amp;id=1316780379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304920"/>
            <a:ext cx="6271920" cy="31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olden 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0" y="4495320"/>
            <a:ext cx="8801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-Kaevaan Setalvad of Grade 7.2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2860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utiful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00760" y="14479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2280"/>
            <a:ext cx="861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lebrity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1176480"/>
                <a:gridCol w="1185840"/>
                <a:gridCol w="1164960"/>
                <a:gridCol w="1175040"/>
                <a:gridCol w="1176120"/>
                <a:gridCol w="1174680"/>
                <a:gridCol w="117648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: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: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eautiful people and normal people do have different ratios, beautiful people have a ratio close to 1.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6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61952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57600" y="4559400"/>
            <a:ext cx="4724280" cy="229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den Ratio Exampl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cient Greek ruins from the Acropolis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s. Thisis where the Parthenon is buil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lden Ratio in your own bod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projectconsulting.com/images/sci_17_hand.gi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eresting Site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Eye- 3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the Bridge of my Nose- 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Smile-8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Teeth when I smile- 6.5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28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ridge width/Eye width= 2/3= 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th width/Teeth width= 8/5.5= 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, the two are not exactly the same, but they are very close to each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28600"/>
            <a:ext cx="883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Width= 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Width=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Width= 1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th Width= 10m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2280"/>
            <a:ext cx="89154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i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rofile_pic" descr="Kaevaan Setalv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765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Friend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195560"/>
          <a:ext cx="7696080" cy="5310000"/>
        </p:xfrm>
        <a:graphic>
          <a:graphicData uri="http://schemas.openxmlformats.org/drawingml/2006/table">
            <a:tbl>
              <a:tblPr/>
              <a:tblGrid>
                <a:gridCol w="1100160"/>
                <a:gridCol w="1100160"/>
                <a:gridCol w="1096920"/>
                <a:gridCol w="1101600"/>
                <a:gridCol w="1096920"/>
                <a:gridCol w="1100160"/>
                <a:gridCol w="1100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s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: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s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k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dh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of them wer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were not very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280" y="22860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lts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676520"/>
          <a:ext cx="8686440" cy="3124080"/>
        </p:xfrm>
        <a:graphic>
          <a:graphicData uri="http://schemas.openxmlformats.org/drawingml/2006/table">
            <a:tbl>
              <a:tblPr/>
              <a:tblGrid>
                <a:gridCol w="1448280"/>
                <a:gridCol w="1447560"/>
                <a:gridCol w="1448280"/>
                <a:gridCol w="1446120"/>
                <a:gridCol w="1447920"/>
                <a:gridCol w="1448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 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Eye   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Teeth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e two ratios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very similar to those of my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servations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9T14:34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